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4137-EB63-4734-8FBD-2F7FF9605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E872-4692-4495-A039-263ECEEBF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9F031-C8F9-4F28-AA21-A04806041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AB91-B1B8-481D-B637-AD640D23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4918D-D113-4F0E-8422-8601E7C40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26682-DF41-4657-BE00-BB74B839A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CF570-ECA8-4D76-81FB-E1E64AA45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EEECA-D975-445E-B5DD-40F259DE8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38E7F-731B-457C-B63E-E0F586E7E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59B49-2C6D-44F4-BEB7-F5EA96930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0EE7-3B1F-4998-BC7C-F9C7AB125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35902-F554-4235-9E91-47B443417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3115-43B4-41C7-8580-4927659C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7EA96-372A-44C6-9FAD-42CC7D707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5DF51-38A5-4931-8972-74A36822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F0847-7335-449A-953B-2E543D19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7C3ED-1C2D-40CA-ADA3-78BDD46AC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CB422-9E60-4791-90B4-1E0FF7D27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D370A-A502-44B7-AF00-4305D90F1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0EFD29-3491-4222-A0A2-20D631579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B69574-E64B-434E-A2A6-0991BBA17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E261DD-E8B0-4FA5-931F-8CA70EA4B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E8C1C2-D430-4C97-A424-9E2A12A53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AA0876-8782-4711-81D5-5B5CC2DF1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04BC-00D2-413D-9ECB-ACEAA718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479F4B-BA59-4190-ABE7-E471BC33F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FD1E90-4FAA-4707-B22A-CCAA7B378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E4C441-5938-4FDF-BB1D-88B53500A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B1E187-9C94-44B8-9CFE-7E976F8BC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22A269-E62E-4F14-A465-428E6A5F1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0368170-3FBC-446F-87A1-D739FDC6A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629B64-C37C-4C74-8C08-AE3787F357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47E613-16E1-4E8F-9C45-399D12994D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F1C31-EB87-4587-8C2E-6C6EE2AED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36918-AA6F-4A21-8022-07BD44EEA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1590E-DA8C-4C7E-A1A5-C06D9A01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6B5E9-6B7E-4393-8FF4-284D37C0E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4E1B0-D9D2-49A7-B107-FB8F1F8ED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BA2F2-AC9A-458B-B783-571E31009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10E53-B390-42F6-B514-564080F6A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350FA-EE7B-4008-A19A-D1DA12910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58C2D-5109-44ED-9628-0329998EA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BBE7B-A7E4-41B7-B2F1-85FC6E0D7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AD89F-0FFB-4B54-88AA-05AA8C2BC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4A9E1F-01E3-4A41-B50E-BAE70E3CA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7825-C489-4A04-91A1-E6D954CF2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16D00-052A-40F5-AEC0-C52C6621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E0E7-1B55-48D7-B484-5C49CE3F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B289-BBF8-4BE9-9E66-3D51CA60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828D-71F1-40FC-B0E2-868C8ED4F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D5E8-51B4-424F-B551-E569F92A8F46}"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B68F-6909-44D3-BC5E-256B16C402D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E16C-1BD6-4116-8F05-D0EF6DA08787}"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4FC9-2B6C-41B0-BC21-67FFB9790647}"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2924-D2DE-45ED-B18A-BA66E00A1A71}"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73B2-6448-4298-B87C-2E3D9A3AF41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BF6D-1AD9-496D-980D-B36AB7DE5618}"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8091-EAD7-49BC-A7E5-B9F4A77BA7D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0" name=""/>
          <p:cNvSpPr txBox="1"/>
          <p:nvPr/>
        </p:nvSpPr>
        <p:spPr>
          <a:xfrm>
            <a:off x="1042560" y="2323800"/>
            <a:ext cx="7643880" cy="3508200"/>
          </a:xfrm>
          <a:prstGeom prst="rect">
            <a:avLst/>
          </a:prstGeom>
          <a:noFill/>
          <a:ln w="0">
            <a:noFill/>
          </a:ln>
        </p:spPr>
        <p:txBody>
          <a:bodyPr anchor="t">
            <a:normAutofit fontScale="94000"/>
          </a:bodyPr>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Boxelder, Black Walnut, Green Ash, Bur Oak</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oxelder hit by lightning) =</a:t>
            </a:r>
            <a:br>
              <a:rPr sz="2200"/>
            </a:br>
            <a:r>
              <a:rPr b="0" lang="en-US" sz="2200" spc="-1" strike="noStrike">
                <a:solidFill>
                  <a:srgbClr val="3e3d2d"/>
                </a:solidFill>
                <a:latin typeface="Century Gothic"/>
              </a:rPr>
              <a:t>7/27, 7:27, .2592̅5̅9̅ or %25.9</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lack Walnut hit by lightning) =</a:t>
            </a:r>
            <a:br>
              <a:rPr sz="2200"/>
            </a:br>
            <a:r>
              <a:rPr b="0" lang="en-US" sz="2200" spc="-1" strike="noStrike">
                <a:solidFill>
                  <a:srgbClr val="3e3d2d"/>
                </a:solidFill>
                <a:latin typeface="Century Gothic"/>
              </a:rPr>
              <a:t>9/27 = 3/9 = 1/3 (be sure to simplify), 1:3, .3̅3̅ or %33.3</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Green Ash hit by lightning) =</a:t>
            </a:r>
            <a:br>
              <a:rPr sz="2200"/>
            </a:br>
            <a:r>
              <a:rPr b="0" lang="en-US" sz="2200" spc="-1" strike="noStrike">
                <a:solidFill>
                  <a:srgbClr val="3e3d2d"/>
                </a:solidFill>
                <a:latin typeface="Century Gothic"/>
              </a:rPr>
              <a:t>5/27, 5:27, .1851̅8̅5̅ or %18.5</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ur Oak hit by lightning) =</a:t>
            </a:r>
            <a:br>
              <a:rPr sz="2200"/>
            </a:br>
            <a:r>
              <a:rPr b="0" lang="en-US" sz="2200" spc="-1" strike="noStrike">
                <a:solidFill>
                  <a:srgbClr val="3e3d2d"/>
                </a:solidFill>
                <a:latin typeface="Century Gothic"/>
              </a:rPr>
              <a:t>6/27 = 2/9, 2:9, .2̅2̅ or %22.2</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2" name=""/>
          <p:cNvSpPr txBox="1"/>
          <p:nvPr/>
        </p:nvSpPr>
        <p:spPr>
          <a:xfrm>
            <a:off x="1042920" y="2323800"/>
            <a:ext cx="695808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sets up a live trap to survey small game animals in a specific habitat. The trap was set out for 30 days and checked each morning. At the end of 30 days, 16 animals had been trapped: 9 prairie dogs, 3 mink, 2 opossum, and 2 raccoons. Identify the sample space of this experiment. What is the probability if the student set up a trap in that space that the next animal they would catch is a mink?</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4"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prairie dog, mink, opossum, racco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catching mink) = 3/16, 3:16, 0.1875 or %18.75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6" name=""/>
          <p:cNvSpPr txBox="1"/>
          <p:nvPr/>
        </p:nvSpPr>
        <p:spPr>
          <a:xfrm>
            <a:off x="1042560" y="2323800"/>
            <a:ext cx="71103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ssume a student works for a company that mines uranium.  The company drilled 127 test holes on a section of land to help identify commercial grade of uranium deposits prior to beginning mining the section.  Of the 127 samples taken from the holes, 98 tested positive for uranium.  The other 29 samples turned out negative for uranium.  Of the 98 positive samples, only 56 were commercial grade.  Identify the sample space for this section of land.  What is the probability that any random test site on that section of land contained commercial grade uraniu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commercial grade uranium, non-commercial grade uranium, no uranium</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finding commercial grade uranium) = 56/127, 57:127, .448818897… or %44.9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914400" y="1900080"/>
            <a:ext cx="7315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Natural Resources students will be able to predict outcomes of natural random events based on theoretical proba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atural Resources, NR1.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amine planning data to determine natural resource status </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llect data to determine resource availability and health of a specific natural resource</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alyze resource inventory and population studies of natural resource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S.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predict outcomes of simple events using given theoretical probabilities (Comprehens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etermine the sample space of an experimen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034400" cy="3508200"/>
          </a:xfrm>
          <a:prstGeom prst="rect">
            <a:avLst/>
          </a:prstGeom>
          <a:noFill/>
          <a:ln w="0">
            <a:noFill/>
          </a:ln>
        </p:spPr>
        <p:txBody>
          <a:bodyPr anchor="t">
            <a:normAutofit fontScale="96000"/>
          </a:bodyPr>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Probability</a:t>
            </a:r>
            <a:endParaRPr b="0" lang="en-US" sz="1800" spc="-1" strike="noStrike">
              <a:solidFill>
                <a:srgbClr val="3e3d2d"/>
              </a:solidFill>
              <a:latin typeface="Century Gothic"/>
            </a:endParaRPr>
          </a:p>
          <a:p>
            <a:pPr lvl="1" marL="613800" indent="-2617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 likelihood or chance of something happening in a given experiment</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Formula for theoretical probability of an event: P(event) = number of desired outcomes/number of total outcomes</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Example: The probability of flipping a heads when flipping a coin is ½. On a coin, there are only 2 possible outcomes (heads or tails). The total possible outcomes, 2,  is our denominator. The total number possible for our desired outcome of heads, 1, is our numerator. Thus, the probability is ½.</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Probabilities can be written as a fraction (½), a ratio (1:2), a percentage (50%) or a decimal (0.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ample space</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sample space of an experiment is the set of all possible outcomes of the experimen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ample: When flipping a coin, the sample space is: head, tai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1 out of every 6 eggs laid by a hen pheasant will not fully incubate and hatch. While monitoring a hens nest, a student was able to number eggs as they were laid, 1 through 6, 1 being the first laid and 6 being the last. Find the sample space of this experiment. What is the probability that the last egg laid will not hatc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920" y="2323800"/>
            <a:ext cx="741528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irst, figure out the sample space</a:t>
            </a:r>
            <a:endParaRPr b="0" lang="en-US" sz="2000" spc="-1" strike="noStrike">
              <a:solidFill>
                <a:srgbClr val="3e3d2d"/>
              </a:solidFill>
              <a:latin typeface="Century Gothic"/>
            </a:endParaRPr>
          </a:p>
          <a:p>
            <a:pPr lvl="1" marL="633240" indent="-2700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e have 6 eggs that we are monitoring to see if they hatch or do not hatch. So our sample space is: egg 1, egg 2, egg 3, egg 4, egg 5, egg 6</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ext, figure the probability for each egg to not hatch</a:t>
            </a:r>
            <a:endParaRPr b="0" lang="en-US" sz="2000" spc="-1" strike="noStrike">
              <a:solidFill>
                <a:srgbClr val="3e3d2d"/>
              </a:solidFill>
              <a:latin typeface="Century Gothic"/>
            </a:endParaRPr>
          </a:p>
          <a:p>
            <a:pPr lvl="1" marL="633240" indent="-27000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only 1 in every 6 eggs does not hatch, and we have a nest of 6 eggs, each egg has a 1 in 6 chance of not hatching; the probability for each set in our sample space would look like this:  egg 1: 1/6, egg 2: 1/6, egg 3: 1/6, egg 4: 1/6, egg 5: 1/6, egg 6: 1/6</a:t>
            </a:r>
            <a:endParaRPr b="0" lang="en-US" sz="18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P(egg 6 not hatching) = 1/6, 1:6, 0.16̅6̅ or %16.6</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5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cruising an acre of wooded land to identify the types of trees in the area. She identified 27 trees: 7 Boxelder, 9 Black Walnut, 5 Green Ash, and 6 Bur Oak. Identify the sample space of this acre of land. If a single tree is randomly hit and killed by lightning in a storm, what is the probability of each type of tree in this surveyed acre being hi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06:47Z</dcterms:modified>
  <cp:revision>102</cp:revision>
  <dc:subject/>
  <dc:title>South Dakota Ag Education</dc:title>
</cp:coreProperties>
</file>